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16F-62CB-4C28-B17A-17FEB553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8F7-790B-4DF1-8560-295BA692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783-BCEE-4BEA-9DEC-EB55E4C6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9D8-28CF-4A3E-8EFF-9BACDB55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4C5-E14B-4708-95C0-C3C67660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F49-2BAC-4D9F-8366-9944E21E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097-DC91-46B8-93DC-C875768F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738-5ED8-4900-BBCD-09B35274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E81-69AE-4515-A3AD-ACB8D22D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08A-50BF-4730-8135-E2746B44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F19-103F-4463-BC5D-D4E3E29B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EB3-CAC9-4FBA-9BE9-B2616E1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5721-9474-49A6-9794-3FB3AE42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hyperlink" Target="http://www.50states.com/delaware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hyperlink" Target="http://bensguide.gpo.gov/3-5/state/delaware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000110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228600"/>
            <a:ext cx="63248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laware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556272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number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617400" cy="166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562720" y="3733920"/>
            <a:ext cx="154944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60879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 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4335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바탕"/>
              </a:rPr>
              <a:t>Cli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191120" y="4572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80880"/>
            <a:ext cx="3124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laware So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/7/20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50states.com/del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 Del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D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783,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 December 1787 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Liberty and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 Diamo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 Peach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 Blue Hen 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 Our Del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 For Thomas West Lord de la wa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05720" y="2743200"/>
            <a:ext cx="1598400" cy="182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05720" y="4869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22860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4114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 a cool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Delaware: Map and State Flag"/>
          <p:cNvPicPr/>
          <p:nvPr/>
        </p:nvPicPr>
        <p:blipFill>
          <a:blip r:embed="rId1"/>
          <a:srcRect l="0" t="34096" r="0" b="0"/>
          <a:stretch/>
        </p:blipFill>
        <p:spPr>
          <a:xfrm>
            <a:off x="2971800" y="1066680"/>
            <a:ext cx="2114640" cy="221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Delaware: Map and State Flag"/>
          <p:cNvPicPr/>
          <p:nvPr/>
        </p:nvPicPr>
        <p:blipFill>
          <a:blip r:embed="rId2"/>
          <a:srcRect l="0" t="0" r="0" b="61379"/>
          <a:stretch/>
        </p:blipFill>
        <p:spPr>
          <a:xfrm>
            <a:off x="5562720" y="1523880"/>
            <a:ext cx="2114280" cy="129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00400" y="529416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191120"/>
            <a:ext cx="7086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s Guide to U.S.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Dela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/22/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delawa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380880" y="357120"/>
            <a:ext cx="7010640" cy="5027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579132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ckson Plantatio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0001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295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nic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543800" cy="45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6680" y="6015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638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ware state nickname is the diamond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1Z</dcterms:created>
  <dc:creator>install</dc:creator>
  <dc:description/>
  <dc:language>en-US</dc:language>
  <cp:lastModifiedBy>install</cp:lastModifiedBy>
  <dcterms:modified xsi:type="dcterms:W3CDTF">2010-10-14T13:19:47Z</dcterms:modified>
  <cp:revision>15</cp:revision>
  <dc:subject/>
  <dc:title>Slide 1</dc:title>
</cp:coreProperties>
</file>